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05C-FA36-436F-986E-23381331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5B0-4FE0-424C-B080-F63B67E5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A3E-1C26-4E53-90D7-E410254E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B3E-B836-497D-9D31-C1FC99F3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598-2ADB-4CB3-BA14-AE1A6E9B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BE4-780F-48BF-B3B3-797173F0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9D8-023F-41D6-B184-35456596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776-3AD9-4E7D-8D33-DE299FC5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0BC-BA9E-4ED2-827A-1616151C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D20-348B-42BE-B70F-EB37AEE6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2E2-4A77-4C5F-A242-CE170EFD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201-B44B-46B0-9444-E11DFAB8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4771_03_2002_Volpi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ologies for not using open sourc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2424-E1DD-40E4-88E2-EBD0E6A5C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LS  MIB Review Sum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pplicability to GMPLS MIB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Nadea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nadeau@cisco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ian Far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farrel@movaz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rom MPLS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 Final Changes for MPLS MIBs requested by MIB Do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Interaction between MIB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S-TC, MPLS-LSR, MPLS-LDP, MPLS-TE, MPLS-FTN, TE-TE, LINK-BU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S MIB Overview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interaction/sup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ACTION Items for Auth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LS MIB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Detail of Changes at IETF ID Tracker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://datatracker.ietf.org/public/pidtracker.c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inor Changes to base MPLS MI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 of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ial in Nature (split REFS, IPR stat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ew Significant Changes to base MPLS MI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d to work fine with GMPLS MI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/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to handle all GMPLS function in base GMPLS dra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 conceived as extensions/aug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getting messy so we went for “v2” M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long while we had four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L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ly revised our approach to use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 for a long time by progress on MPLS MIBs, but will move forward as soon as MPLS MIBs are updated and moved to IESG for approval (very so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dra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TC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TE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LSR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gest Issue: How do we represent lab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labels may be G.T.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labels may be concate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esirable to expose the contents of the label (e.g. SONET/SDH label fiel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the other MIB tables (e.g. LSR) reference labels through a type identifier and an index/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ype is one, label is in place (note: zero better for b/w compat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index points into Labe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roposed Approach from MIB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ype field {packet/non-packet} + OctetString Index into label table wherever labels are refere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current MPLS labels to be represented in-line in OctetString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“long” labels can be found in a table of Octet Strings that facilitate their potentially long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ssues and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s that match protocol fields will be managed by I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should not be media-specific tables for no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extensions for Sonet/SDH Sender T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MPLS features: Notify recipients, administrative statuses control (NOT MIB row AdminStatus!), Hello restart options, interface Id HOP/Error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ial/compilation/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/Action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update MPLS MIBs by 12/15  based on review Comments on latest MIBs. Resolution of any issues on email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MPLS Working Group “LAST, LAST, LAST Call” at tha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MIBs updated thereafter, and certainly by March IETF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on GMPLS Management Overview document for March IETF meeting (have been waiting for MPLS MIBs to be sorted ou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8:27:44Z</dcterms:created>
  <dc:creator>jcucchiara</dc:creator>
  <dc:description/>
  <dc:language>en-US</dc:language>
  <cp:lastModifiedBy>rbonica</cp:lastModifiedBy>
  <dcterms:modified xsi:type="dcterms:W3CDTF">2002-11-21T13:58:20Z</dcterms:modified>
  <cp:revision>14</cp:revision>
  <dc:subject/>
  <dc:title>MPLS  MIB Review Summary </dc:title>
</cp:coreProperties>
</file>